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9AF-20E7-4FCA-8F52-F66F2168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47E1-4273-4305-BAAC-E484D2FD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F543-FB81-4532-8539-14916F2B9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0DDB-117C-4203-B8F7-8A9F7A702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7BF-47EF-4CED-9943-42D6CEF4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D30B-F552-4804-B6B1-ED1495CE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04F8-B74E-4A7B-BE21-38E1F8F1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5B4B-8908-4E43-A15B-DCD29993B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C8A-8377-4798-9326-AB4E73D2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538B-D974-4DF1-823D-3474FB54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222-19C6-40D1-8A0A-0A15AD00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909D-4939-46C6-B2CF-57190821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FCEA-3934-4454-ACC2-F71E827DC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mmar Error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Exam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be in there pres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love to be in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i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es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 met a lot of nice people I never made an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I met a lot of nic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people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never made any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ood to see new people; furthermore it creates an environment of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good to see new people;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furthermore</a:t>
            </a: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creates an environment of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offer suggestions only when someone ask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ill offer suggestions only when someone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as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hild is open with their parents then the parents will know what is going on in their child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child is open with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his or h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parents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the parents will know what is going on in their child’s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the racers, the off roaders, and the recreational vehicle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racers, the off roaders, and the recreational vehicle driv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hird type of boyfriend is the user these are the guys who take advantage of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third type of boyfriend is the </a:t>
            </a: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user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Thes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the guys who take advantage of gir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oghouse is a great investment because its a protective shel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doghouse is a great investment because </a:t>
            </a:r>
            <a:r>
              <a:rPr b="0" lang="en-US" sz="3000" spc="-1" strike="noStrike">
                <a:solidFill>
                  <a:srgbClr val="00cc66"/>
                </a:solidFill>
                <a:latin typeface="Arial"/>
              </a:rPr>
              <a:t>it’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protective shelt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’s wrong with these sentenc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, hyper children, is children who cannot sit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type, hyper children,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ildren who cannot sit sti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a dog trainer should pay attention to the personality of each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erefo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 dog trainer should pay attention to the personality of each do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6T20:51:13Z</dcterms:created>
  <dc:creator>NOCCCD</dc:creator>
  <dc:description/>
  <dc:language>en-US</dc:language>
  <cp:lastModifiedBy>NOCCCD</cp:lastModifiedBy>
  <dcterms:modified xsi:type="dcterms:W3CDTF">2011-06-06T21:12:28Z</dcterms:modified>
  <cp:revision>2</cp:revision>
  <dc:subject/>
  <dc:title>Grammar Error Practice</dc:title>
</cp:coreProperties>
</file>